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A4D-AA24-497A-BF3C-867A7423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14B-6245-45EC-A514-ECBD8661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68E-D24E-4292-8D96-6D01F2FA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210-7C70-44FF-A9EE-3EE55871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208-55E4-4526-B192-42D4122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F9D-F5A7-43A0-BF9F-76D4B7AD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926-4589-4290-A2CD-E1BB513C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2A4-F0CA-48B5-B6CA-D336B1B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26B-73B0-4D09-8E4F-A74917D6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35F-C4AB-4BE7-9B96-85041CE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AB4-D163-472B-BF3B-3CCACC2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8B1-6334-43ED-8562-6DF59AD7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B54-FD32-4DA5-B3A6-43F90296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4572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-أن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لكنا-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ُد علينا الآن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ملأ المكان 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ِسَكين عجيب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روحك الحنّان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آن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18b" descr=""/>
          <p:cNvPicPr/>
          <p:nvPr/>
        </p:nvPicPr>
        <p:blipFill>
          <a:blip r:embed="rId1"/>
          <a:stretch/>
        </p:blipFill>
        <p:spPr>
          <a:xfrm>
            <a:off x="0" y="-25560"/>
            <a:ext cx="58672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7464500DVbzFrqSsR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0"/>
            <a:ext cx="3200400" cy="74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قوة روحك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مس 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حتياجاتنا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ضا ترنيمنا  -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آ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ملك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8:09Z</dcterms:modified>
  <cp:revision>4</cp:revision>
  <dc:subject/>
  <dc:title>PowerPoint Presentation</dc:title>
</cp:coreProperties>
</file>